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9661-941E-4CB6-84F4-3B339284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60C0-5F50-44CC-B80B-44E6D901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538-CB5B-4175-A78C-B732E4C6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DA28-4906-4B81-9FDB-BB35E749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F5A1-CDEC-4028-A28A-C665C4BD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0746-C1FE-420E-8DAB-F8596FC3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4959-8758-4A0D-923E-ABA47418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9432-DBDF-45A6-91A5-C37B821F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1D84-A559-46F4-B5E2-11C847BC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B4A1-697F-4F6F-90CE-1851BE31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EB64-63A6-4E63-8BDF-FB8428A6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D26-EDC9-49E5-8624-BF421B7D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59CB-D788-4660-A08A-5E041393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9A7E-DA02-4D54-A845-237F25AF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8699-0255-4596-9E67-0126FB32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5F52-CDF1-4C74-827C-9D5B39DE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0568-1D67-49D8-B0BF-32E3E5A2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2F5-BBD8-4BD6-9262-BA16405F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F40-8B84-4A9F-AF27-A676AB73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2FB-85A4-4181-98DF-EFB8BEA5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13F2-5275-4E31-8D4D-591A911C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306-38C8-47BD-B4A4-236CBCE5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DC54-21C4-4DC3-8309-7B7423E2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7A9F-B85E-444B-A811-61000FF1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icrosoft Sans Serif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89F4-D820-4AEE-8D7C-3BFA271E1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crosoft Sans Serif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E269-BB52-4100-A756-F9FC18793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716360" y="990720"/>
            <a:ext cx="3741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Microsoft Sans Serif"/>
              </a:rPr>
              <a:t>중세 유럽의 과학</a:t>
            </a:r>
            <a:endParaRPr b="1" lang="en-US" sz="4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자연철학과 기독교</a:t>
            </a:r>
            <a:r>
              <a:rPr b="1" lang="en-US" sz="3800" spc="-1" strike="noStrike">
                <a:solidFill>
                  <a:srgbClr val="000000"/>
                </a:solidFill>
                <a:latin typeface="Microsoft Sans Serif"/>
              </a:rPr>
              <a:t>: ‘</a:t>
            </a: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조화’와 ‘갈등’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Microsoft Sans Serif"/>
              </a:rPr>
              <a:t>플라톤의 자연철학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Sans Serif"/>
              </a:rPr>
              <a:t>중세 초기부터 쉽게 조화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79640" y="1752480"/>
            <a:ext cx="4787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아리스토텔레스의 자연철학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1200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년 경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“The Philosopher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토마스 아퀴나스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1225-1274): 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아리스토텔레스의 기독교화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기독교의 아리스토텔레스화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1100" spc="-1" strike="noStrike">
                <a:solidFill>
                  <a:srgbClr val="cc0000"/>
                </a:solidFill>
                <a:latin typeface="Microsoft Sans Serif"/>
              </a:rPr>
              <a:t>“</a:t>
            </a:r>
            <a:r>
              <a:rPr b="0" lang="ko-KR" sz="1100" spc="-1" strike="noStrike">
                <a:solidFill>
                  <a:srgbClr val="cc0000"/>
                </a:solidFill>
                <a:latin typeface="Microsoft Sans Serif"/>
              </a:rPr>
              <a:t>신학의 지나친 속박이 없으면 시녀는 자신의 일을 더 잘할 수 있을 것”</a:t>
            </a:r>
            <a:endParaRPr b="0" lang="en-US" sz="1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13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세기 여러 번의 금지령에도 불구하고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아리스토텔레스 자연철학 존속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or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강화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논리학과 범주들 절대적 영향력 행사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스콜라철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아리스토텔레스 체계에 기초하여 신과 인간과 자연에 관한 합리적 체계 구축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116000" y="2708280"/>
            <a:ext cx="2494080" cy="3313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356000" y="1700280"/>
            <a:ext cx="3990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icrosoft Sans Serif"/>
              </a:rPr>
              <a:t>1277</a:t>
            </a: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년 금지령 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아베로에스주의 철학자와 기독교 사이의 갈등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합리주의적 자연철학이 신의 전능성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자유의지를 제한한다는 비판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우주는 시작도 끝도 없이 영원”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자연의 과정은 규칙적이고 불변”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영혼은 형상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육체는 질료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. 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육체가 죽으면 영혼도 사멸”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철학자 사이에 널리 퍼진 이중진리설에 대한 불편한 심기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13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세기 금지령들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1210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년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1215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년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1231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년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1240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년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도리어 아리스토텔레스 인기↑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1277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년 금지령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파리의 주교 탕피에가 아리스토텔레스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또는 자연철학자들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의 명제 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219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개에 대해 유죄 선고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이를 진리로 옹호하면 즉각 파문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금지령의 귀결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금지된 명제들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(21) “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우연히 일어나는 것은 아무것도 없으며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, </a:t>
            </a:r>
            <a:r>
              <a:rPr b="0" lang="ko-KR" sz="2000" spc="-1" strike="noStrike">
                <a:solidFill>
                  <a:srgbClr val="ff0000"/>
                </a:solidFill>
                <a:latin typeface="Microsoft Sans Serif"/>
              </a:rPr>
              <a:t>모든 것은 필연에 의해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 일어난다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(34) “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첫 번째 원인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(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신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)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도 </a:t>
            </a:r>
            <a:r>
              <a:rPr b="0" lang="ko-KR" sz="2000" spc="-1" strike="noStrike">
                <a:solidFill>
                  <a:srgbClr val="ff0000"/>
                </a:solidFill>
                <a:latin typeface="Microsoft Sans Serif"/>
              </a:rPr>
              <a:t>여러 개의 세계를 만들 수는 없다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(35) “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사람에게 아버지가 있듯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, 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어떤 작인 없이 </a:t>
            </a:r>
            <a:r>
              <a:rPr b="0" lang="ko-KR" sz="2000" spc="-1" strike="noStrike">
                <a:solidFill>
                  <a:srgbClr val="ff0000"/>
                </a:solidFill>
                <a:latin typeface="Microsoft Sans Serif"/>
              </a:rPr>
              <a:t>신 혼자 사람을 만들 수는 없다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(49) “</a:t>
            </a:r>
            <a:r>
              <a:rPr b="0" lang="ko-KR" sz="2000" spc="-1" strike="noStrike">
                <a:solidFill>
                  <a:srgbClr val="ff0000"/>
                </a:solidFill>
                <a:latin typeface="Microsoft Sans Serif"/>
              </a:rPr>
              <a:t>신도 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하늘을 직선으로 운동하도록</a:t>
            </a:r>
            <a:r>
              <a:rPr b="0" lang="ko-KR" sz="2000" spc="-1" strike="noStrike">
                <a:solidFill>
                  <a:srgbClr val="ff0000"/>
                </a:solidFill>
                <a:latin typeface="Microsoft Sans Serif"/>
              </a:rPr>
              <a:t> 할 수는 없다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(154) “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이 세상에 </a:t>
            </a:r>
            <a:r>
              <a:rPr b="0" lang="ko-KR" sz="2000" spc="-1" strike="noStrike">
                <a:solidFill>
                  <a:srgbClr val="ff0000"/>
                </a:solidFill>
                <a:latin typeface="Microsoft Sans Serif"/>
              </a:rPr>
              <a:t>지혜로운 사람들은 철학자들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 뿐이다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금지령의 효과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학문의 자유 제약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?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실제로 파문 당한 학자 없음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국지적 사건일 뿐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금지령 이후에도 아리스토텔레스 자연철학 존속 혹은 오히려 강화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신학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철학 영역 재조정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신학적 진리에 대한 철학의 발언권 상실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급진적 경험주의의 출현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13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세기말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-14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세기초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icrosoft Sans Serif"/>
              </a:rPr>
              <a:t>14</a:t>
            </a: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세기 스콜라철학 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유명론 또는 급진적 경험주의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윌리엄 오컴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William of Ockham, 1288-1348)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신의 전능성 옹호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필연적 인과율 부정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But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모두가 오컴과 같이 급진적인 태도를 취하진 않았음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‘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상상에 의하면’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아리스토텔레스의 이론 ‘가설적 진리’로 격하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세계에 대한 대안적 설명방식에 대한 ‘사고실험’ 시작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e.g. ‘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복수의 세계 가능성’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, ‘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지구의 일주운동 가능성’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, ‘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진공 속에서의 운동가능성’ 등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이성을 통한 이성의 교란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철학자들의 콧대 꺾고 신앙을 이성으로부터 방어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가능세계에 대한 이성적 상상의 훈련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신학자의 능력 검증대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e.g. ‘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신은 동시에 모순적인 일을 할 수 있는가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?’, ‘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천사는 장소에 존재하는가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? 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천사는 동시에 여러 곳에 존재할 수 있는가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?’, ‘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신은 무한을 만들어낼 수 있는가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?’ 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즉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사실 여부에 근거하지 않은 ‘논리적 훈련’ 또는 ‘개념 확립 작업’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Microsoft Sans Serif"/>
              </a:rPr>
              <a:t>스콜라 철학자들의 사고실험</a:t>
            </a:r>
            <a:r>
              <a:rPr b="1" lang="en-US" sz="34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Microsoft Sans Serif"/>
              </a:rPr>
              <a:t>마지막 천구 밖으로 손을 내민다면</a:t>
            </a:r>
            <a:r>
              <a:rPr b="1" lang="en-US" sz="3400" spc="-1" strike="noStrike">
                <a:solidFill>
                  <a:srgbClr val="000000"/>
                </a:solidFill>
                <a:latin typeface="Microsoft Sans Serif"/>
              </a:rPr>
              <a:t>?”</a:t>
            </a:r>
            <a:endParaRPr b="1" lang="en-US" sz="3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84360" y="1752120"/>
            <a:ext cx="428292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당시 스콜라 철학자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신학자들 사이에서 흔히 행해지던 사고실험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공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시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차원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진공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유한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무한 등에 대한 개념 심화하는 역할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대안적 설명을 시도하는 과정에서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非아리스토텔레스적인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다양한 모형과 근거 개발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36" name="" descr="NASA exobiology colorized version"/>
          <p:cNvPicPr/>
          <p:nvPr/>
        </p:nvPicPr>
        <p:blipFill>
          <a:blip r:embed="rId2"/>
          <a:stretch/>
        </p:blipFill>
        <p:spPr>
          <a:xfrm>
            <a:off x="611280" y="1773360"/>
            <a:ext cx="4176720" cy="3286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8360" y="5084640"/>
            <a:ext cx="8001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Microsoft Sans Serif"/>
                <a:ea typeface="가는각진제목체"/>
              </a:rPr>
              <a:t>아리스토텔레스의 속박으로부터 벗어나는 계기</a:t>
            </a:r>
            <a:r>
              <a:rPr b="1" lang="en-US" sz="2600" spc="-1" strike="noStrike">
                <a:solidFill>
                  <a:srgbClr val="cc0000"/>
                </a:solidFill>
                <a:latin typeface="Microsoft Sans Serif"/>
                <a:ea typeface="가는각진제목체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50720" indent="-45072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Microsoft Sans Serif"/>
                <a:ea typeface="가는각진제목체"/>
              </a:rPr>
              <a:t>Vs. </a:t>
            </a:r>
            <a:r>
              <a:rPr b="1" lang="zh-CN" sz="2600" spc="-1" strike="noStrike">
                <a:solidFill>
                  <a:srgbClr val="cc0000"/>
                </a:solidFill>
                <a:latin typeface="Microsoft Sans Serif"/>
                <a:ea typeface="가는각진제목체"/>
              </a:rPr>
              <a:t>자연철학 연구의 발목을 잡는 억지스런 말장난들</a:t>
            </a:r>
            <a:r>
              <a:rPr b="1" lang="en-US" sz="2600" spc="-1" strike="noStrike">
                <a:solidFill>
                  <a:srgbClr val="cc0000"/>
                </a:solidFill>
                <a:latin typeface="Microsoft Sans Serif"/>
                <a:ea typeface="가는각진제목체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운동이론의 발전</a:t>
            </a:r>
            <a:r>
              <a:rPr b="1" lang="en-US" sz="3800" spc="-1" strike="noStrike">
                <a:solidFill>
                  <a:srgbClr val="000000"/>
                </a:solidFill>
                <a:latin typeface="Microsoft Sans Serif"/>
              </a:rPr>
              <a:t>: V∝ F/R</a:t>
            </a: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의 개량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아리스토텔레스 운동이론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V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∝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F/R →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문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F&lt;R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일 경우에도 속도를 가짐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V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∝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F-R) →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음의 속도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?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여전히 문제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브래드워딘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(1325-1382)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의 제안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(Merton College)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일단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V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∝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F/R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에서 출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 F&gt;R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이어서 운동이 시작되는 경우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하는 물체의 속도를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1/2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로 줄이려면 </a:t>
            </a:r>
            <a:r>
              <a:rPr b="0" lang="ko-KR" sz="2200" spc="-1" strike="noStrike">
                <a:solidFill>
                  <a:srgbClr val="000099"/>
                </a:solidFill>
                <a:latin typeface="Microsoft Sans Serif"/>
              </a:rPr>
              <a:t>(F/R)</a:t>
            </a:r>
            <a:r>
              <a:rPr b="0" lang="ko-KR" sz="2200" spc="-1" strike="noStrike" baseline="30000">
                <a:solidFill>
                  <a:srgbClr val="000099"/>
                </a:solidFill>
                <a:latin typeface="Microsoft Sans Serif"/>
              </a:rPr>
              <a:t>1/2 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1/2V 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하는 물체의 속도를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1/3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로 줄이려면 </a:t>
            </a:r>
            <a:r>
              <a:rPr b="0" lang="ko-KR" sz="2200" spc="-1" strike="noStrike">
                <a:solidFill>
                  <a:srgbClr val="000099"/>
                </a:solidFill>
                <a:latin typeface="Microsoft Sans Serif"/>
              </a:rPr>
              <a:t>(F/R)</a:t>
            </a:r>
            <a:r>
              <a:rPr b="0" lang="ko-KR" sz="2200" spc="-1" strike="noStrike" baseline="30000">
                <a:solidFill>
                  <a:srgbClr val="000099"/>
                </a:solidFill>
                <a:latin typeface="Microsoft Sans Serif"/>
              </a:rPr>
              <a:t>1/3 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1/3V  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하는 물체의 속도를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배로 키우려면 </a:t>
            </a:r>
            <a:r>
              <a:rPr b="0" lang="ko-KR" sz="2200" spc="-1" strike="noStrike">
                <a:solidFill>
                  <a:srgbClr val="000099"/>
                </a:solidFill>
                <a:latin typeface="Microsoft Sans Serif"/>
              </a:rPr>
              <a:t>(F/R)</a:t>
            </a:r>
            <a:r>
              <a:rPr b="0" lang="ko-KR" sz="2200" spc="-1" strike="noStrike" baseline="30000">
                <a:solidFill>
                  <a:srgbClr val="000099"/>
                </a:solidFill>
                <a:latin typeface="Microsoft Sans Serif"/>
              </a:rPr>
              <a:t>2    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2V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결국 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V∝ log(F/R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운동이론의 발전</a:t>
            </a:r>
            <a:r>
              <a:rPr b="1" lang="en-US" sz="38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투사체에 대한 이론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아리스토텔레스 운동 이론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외부의 작용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(Mover)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필요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그런데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활을 떠난 화살은 어떻게 움직이나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 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아리스토텔레스의 설명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: ‘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공기’가 밀어준다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0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그렇다면 화살의 끝이 평평한 화살이 더 힘을 잘 받아야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0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팽이는 어떻게 계속 돌 수 있나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*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이러한 문제 때문에 임페투스라는 “내부의 운동원인” 상정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장 뷰리당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(1300-1358)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의 임페투스 이론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처음 운동원인은 임페투스를 물체에 전달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의 크기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=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질량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x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속력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즉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mv (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량과 크기는 같지만…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가 점점 소진되어 정지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운동이론의 발전</a:t>
            </a:r>
            <a:r>
              <a:rPr b="1" lang="en-US" sz="38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운동의 기술</a:t>
            </a:r>
            <a:r>
              <a:rPr b="1" lang="en-US" sz="3800" spc="-1" strike="noStrike">
                <a:solidFill>
                  <a:srgbClr val="000000"/>
                </a:solidFill>
                <a:latin typeface="Microsoft Sans Serif"/>
              </a:rPr>
              <a:t>(description)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5373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영국 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Merton College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의 학자들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운동에 대한 기하학적 기술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가로축에 시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세로축에 속도를 표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그래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속도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순간 속도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평균 속도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균질한 운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등속 운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)’, 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균일하게 비균질한 운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등가속 운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)’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등의 개념 고안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오렘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(1323-1382)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의 평균속도 정리 및 증명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균일하게 비균질한 운동’을 하는 물체가 움직인 거리를 그 평균속도로 ‘균질하게 운동’할 때의 거리로 환산</a:t>
            </a:r>
            <a:endParaRPr b="1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실제 운동에 적용하진 않음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!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원인에 대한 무관심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현상만 기술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962680" y="1773360"/>
            <a:ext cx="26337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결론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스콜라철학자들의 기묘한 태도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14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세기의 스콜라철학자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우주론과 물리학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특히 운동학에서 흥미있고 잠재적으로 중요한 가설적인 결과 제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But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논증 후 다시 전통적 입장으로 회귀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또는 실제에 적용하지 않음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E.g.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오렘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천체와 지구 중에 어느 것이 일주운동을 하는지는 경험에 의해 결정할 수 없다고 결론지은 후에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신학적 이유에서 전통적 입장으로 회귀해버림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왜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논증 자체가 목적일 뿐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그 결론이 목적이 아니었음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아리스토텔레스의 체계가 너무나 견고했음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새 집을 지을 몇몇 재료가 등장했을 뿐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옛 집을 버릴 수는 없었음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중세 유럽의 시기 구분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로마문명 몰락</a:t>
            </a: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(500)</a:t>
            </a: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부터 르네상스</a:t>
            </a: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(1450)</a:t>
            </a: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이전까지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중세초기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500 - 1000)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학문적 암흑기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플라톤주의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중세중기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1000-1200)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번역의 시대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아리스토텔레스주의 유입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중세말기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1200-1450)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스콜라 학풍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아리스토텔레스주의 만연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르네상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1450-1600)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고전의 부활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아리스토텔레스주의 전성기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신플라톤주의 유입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중세 유럽의 성장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기술적 혁신</a:t>
            </a:r>
            <a:endParaRPr b="1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농업혁명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무거운 쟁기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 2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포제 →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포제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군사기술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등자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편자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 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기마 돌격전’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자연동력의 사용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풍차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수차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성장의 전형적 패턴 등장</a:t>
            </a:r>
            <a:endParaRPr b="1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잉여생산물 교역을 위한 시장과 상공업 발달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인구의 증가와 도시의 재등장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군사적 팽창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→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재정복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reconquista)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십자군 원정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그리스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라틴 고전 직접 접촉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수도원학교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문법학교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성당학교의 발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읽기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쓰기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수학 등 교육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→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세기 중세 대학의 설립으로 발전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But, 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유럽의 성장은 관료문명들과 분명히 다름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지방분권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귀한 노동력</a:t>
            </a:r>
            <a:endParaRPr b="1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651640" y="2060640"/>
            <a:ext cx="3020760" cy="1468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321160" y="0"/>
            <a:ext cx="382284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번역의 시대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510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이중언어권 지역에서 시작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근동지역의 라틴왕국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남부 이탈리아와 시칠리아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스페인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번역의 홍수 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(1125-1200 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무렵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재정복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reconquista)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지중해 무역 성장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아랍어→라틴어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스페인 톨레도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제라르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&lt;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알마게스트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&gt;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를 비롯한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70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여권 번역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그리스어→라틴어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남부 이탈리아와 시칠리아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모에르베크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아리스토텔레스의 거의 모든 저작 새로 번역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240160" y="2565360"/>
            <a:ext cx="3903840" cy="3444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659640" y="3860640"/>
            <a:ext cx="360360" cy="360360"/>
          </a:xfrm>
          <a:prstGeom prst="ellipse">
            <a:avLst/>
          </a:prstGeom>
          <a:solidFill>
            <a:srgbClr val="33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6516720" y="4653000"/>
            <a:ext cx="360360" cy="360360"/>
          </a:xfrm>
          <a:prstGeom prst="ellipse">
            <a:avLst/>
          </a:prstGeom>
          <a:solidFill>
            <a:srgbClr val="cc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중세 번역 활동의 특징과 의의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유럽 번역 활동의 특징 </a:t>
            </a:r>
            <a:r>
              <a:rPr b="1" lang="en-US" sz="2600" spc="-1" strike="noStrike">
                <a:solidFill>
                  <a:srgbClr val="000000"/>
                </a:solidFill>
                <a:latin typeface="Microsoft Sans Serif"/>
              </a:rPr>
              <a:t>(vs. </a:t>
            </a: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이슬람</a:t>
            </a:r>
            <a:r>
              <a:rPr b="1" lang="en-US" sz="26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체계적 번역의 부재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산발적 진행 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중복 번역 다수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번역 대상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구하기 쉬운 저작 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짧은 저작 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쉬운 저작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번역 방식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단어 대 단어 직역 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수많은 오역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	</a:t>
            </a:r>
            <a:r>
              <a:rPr b="1" lang="zh-CN" sz="2200" spc="-1" strike="noStrike">
                <a:solidFill>
                  <a:srgbClr val="cc0000"/>
                </a:solidFill>
                <a:latin typeface="Microsoft Sans Serif"/>
              </a:rPr>
              <a:t>그럼에도</a:t>
            </a: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1" lang="zh-CN" sz="2200" spc="-1" strike="noStrike">
                <a:solidFill>
                  <a:srgbClr val="cc0000"/>
                </a:solidFill>
                <a:latin typeface="Microsoft Sans Serif"/>
              </a:rPr>
              <a:t>번역의 시대는 유럽 지성사의 일대 전환점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번역 활동의 의의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12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세기 르네상스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지식의 홍수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‘</a:t>
            </a:r>
            <a:r>
              <a:rPr b="1" lang="zh-CN" sz="2200" spc="-1" strike="noStrike">
                <a:solidFill>
                  <a:srgbClr val="cc0000"/>
                </a:solidFill>
                <a:latin typeface="Microsoft Sans Serif"/>
              </a:rPr>
              <a:t>고대의 지식’과 ‘고대의 현자’에 대한 경외감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zh-CN" sz="2200" spc="-1" strike="noStrike">
                <a:solidFill>
                  <a:srgbClr val="cc0000"/>
                </a:solidFill>
                <a:latin typeface="Microsoft Sans Serif"/>
              </a:rPr>
              <a:t>그것을 복원하고 흡수하려는 열망 커짐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zh-CN" sz="2200" spc="-1" strike="noStrike">
                <a:solidFill>
                  <a:srgbClr val="cc0000"/>
                </a:solidFill>
                <a:latin typeface="Microsoft Sans Serif"/>
              </a:rPr>
              <a:t>대학의 설립 </a:t>
            </a: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/ </a:t>
            </a:r>
            <a:r>
              <a:rPr b="1" lang="zh-CN" sz="2200" spc="-1" strike="noStrike">
                <a:solidFill>
                  <a:srgbClr val="cc0000"/>
                </a:solidFill>
                <a:latin typeface="Microsoft Sans Serif"/>
              </a:rPr>
              <a:t>아리스토텔레스 자연철학 위주의 교육 커리큘럼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아리스토텔레스 자연철학이 중세 서유럽에 전파되고 계승 발전되는 계기 마련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중세 대학의 등장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50133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번역작업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지역적으로 편중되어서 진행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	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어떻게 전 유럽에 걸쳐 영향을 미칠 수 있었나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? 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그 해답은 바로 대학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	</a:t>
            </a:r>
            <a:r>
              <a:rPr b="1" lang="ko-KR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번역의 시대에 유입된 다량의 지식들은 대학이라는 제도가 마련되면서 전 유럽에 걸쳐 흡수될 수 있었음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중세 대학의 설립</a:t>
            </a:r>
            <a:endParaRPr b="1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초등교육의 확대 → 고등교육 욕구 증대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성당학교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도시학교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 대학으로 진화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교수와 학생들이 조직해 ‘허가장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charter)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을 받은 일종의 길드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즉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자치조직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볼로냐 대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1150) /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파리 대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1200) /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옥스퍼드 대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1220)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624640" y="1844640"/>
            <a:ext cx="351936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948360" y="3645000"/>
            <a:ext cx="360360" cy="288720"/>
          </a:xfrm>
          <a:prstGeom prst="ellipse">
            <a:avLst/>
          </a:prstGeom>
          <a:solidFill>
            <a:srgbClr val="cc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8101080" y="4437000"/>
            <a:ext cx="431640" cy="287280"/>
          </a:xfrm>
          <a:prstGeom prst="ellipse">
            <a:avLst/>
          </a:prstGeom>
          <a:solidFill>
            <a:srgbClr val="cc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3141720"/>
            <a:ext cx="360360" cy="287280"/>
          </a:xfrm>
          <a:prstGeom prst="ellipse">
            <a:avLst/>
          </a:prstGeom>
          <a:solidFill>
            <a:srgbClr val="cc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중세 대학의 구조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5300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교과 과정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교양학부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자연철학 교육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3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학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문법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수사학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논리학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4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과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산술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기하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천문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화성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전문학부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신학부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법학부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의학부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	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유럽의 모든 대학생이 아리스토텔레스 논리학과 수리과학을 필수적으로 배우게 됨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교육 내용과 방법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아리스토텔레스 저작 교육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[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질문들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]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이라는 독특한 방법 채택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e.g.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지구가 돈다면 어떻게 될까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940360" y="1844640"/>
            <a:ext cx="2665080" cy="4176720"/>
            <a:chOff x="5940360" y="1844640"/>
            <a:chExt cx="2665080" cy="417672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5941080" y="1844640"/>
              <a:ext cx="266436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985720" y="2360160"/>
              <a:ext cx="414360" cy="64260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태 나무"/>
                  <a:ea typeface="태 나무"/>
                </a:rPr>
                <a:t>문법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85720" y="3560760"/>
              <a:ext cx="414360" cy="64260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태 나무"/>
                  <a:ea typeface="태 나무"/>
                </a:rPr>
                <a:t>논리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40360" y="4655520"/>
              <a:ext cx="412200" cy="64260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태 나무"/>
                  <a:ea typeface="태 나무"/>
                </a:rPr>
                <a:t>수사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65600" y="1992960"/>
              <a:ext cx="411480" cy="64260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태 나무"/>
                  <a:ea typeface="태 나무"/>
                </a:rPr>
                <a:t>기하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65600" y="2929680"/>
              <a:ext cx="411480" cy="64260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태 나무"/>
                  <a:ea typeface="태 나무"/>
                </a:rPr>
                <a:t>산술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20240" y="3925440"/>
              <a:ext cx="414360" cy="64260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태 나무"/>
                  <a:ea typeface="태 나무"/>
                </a:rPr>
                <a:t>화성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20240" y="4971600"/>
              <a:ext cx="414360" cy="64260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태 나무"/>
                  <a:ea typeface="태 나무"/>
                </a:rPr>
                <a:t>천문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1280" y="11160"/>
            <a:ext cx="77058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중세 대학의 문화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3694320" cy="4319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1857" t="0" r="242" b="1305"/>
          <a:stretch/>
        </p:blipFill>
        <p:spPr>
          <a:xfrm>
            <a:off x="4427640" y="1125360"/>
            <a:ext cx="3444840" cy="4940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26920" y="1844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Chained book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1557360"/>
            <a:ext cx="1656000" cy="368280"/>
          </a:xfrm>
          <a:prstGeom prst="rect">
            <a:avLst/>
          </a:prstGeom>
          <a:solidFill>
            <a:srgbClr val="000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Sans Serif"/>
                <a:ea typeface="가는각진제목체"/>
              </a:rPr>
              <a:t>중세 대학생 문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7-07-18T07:06:29Z</dcterms:modified>
  <cp:revision>10</cp:revision>
  <dc:subject/>
  <dc:title>중세 유럽의 과학</dc:title>
</cp:coreProperties>
</file>